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91D14-CD3A-49C4-816A-52D16A2EA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32A39-B527-46AE-9EA9-F02BEE488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9340B-E405-4577-886D-C42BCC989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E5D47-2F0D-441D-BA60-D630F9F12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11CE9-93A6-4A0B-A7E5-C397C9B4F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38393-596A-4433-8FF3-5F201D6CD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DBBAE-C530-4FB3-8F83-AF29F491C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A037C-3BF8-4C92-8207-E09310A80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2771C-C398-4236-8DC0-40BAFD13C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5503F-C056-4A32-8211-C040D298E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E8AEA-DAD4-49F0-80C7-FD0A25B23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B407B-CBDC-4ECF-BD5B-F145FD965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A7A4-F3D2-4578-A7FF-A9DD41479B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a:t>
            </a:r>
            <a:r>
              <a:rPr b="0" i="1" lang="en-GB" sz="1000" spc="-1" strike="noStrike">
                <a:solidFill>
                  <a:srgbClr val="000000"/>
                </a:solidFill>
                <a:latin typeface="Arial"/>
              </a:rPr>
              <a:t>B</a:t>
            </a:r>
            <a:r>
              <a:rPr b="0" i="1" lang="ro-RO" sz="1000" spc="-1" strike="noStrike">
                <a:solidFill>
                  <a:srgbClr val="000000"/>
                </a:solidFill>
                <a:latin typeface="Arial"/>
              </a:rPr>
              <a:t>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a:t>
            </a:r>
            <a:r>
              <a:rPr b="0" lang="ro-RO" sz="1000" spc="-1" strike="noStrike">
                <a:solidFill>
                  <a:srgbClr val="000000"/>
                </a:solidFill>
                <a:latin typeface="Arial"/>
              </a:rPr>
              <a:t>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numărul de specii biologice. </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unitatea lumii vii,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mecanismului eredităţii.</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Picture 7" descr="comp_i"/>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o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i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17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